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5ADA2-DDA5-41A0-8A9C-B8E3FCEBA7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1E6A63BD-FF32-4641-BD78-7D986B14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95FCF9-ACB3-4E9D-A820-ED657B22A9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B6FCE73-2EBD-4B1D-AEC4-1FB145BA1F6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07488B-CA83-493A-8B48-C9CC8A555C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154DF3-BC55-4C4C-912D-3777835080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CF0B55-F6EB-4DDB-B01C-39440C5497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7C538C-E0CF-4532-BDCF-0CCC242206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04676D-FA10-44CA-96AA-7234EB9F095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D44957E-DC8E-4D34-AE6B-4ACE16DC628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1E81902-D1A1-4B24-8E1B-17113A469E7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EFBFB7E-2726-4A97-AB1A-4368FDE0633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910ECB2E-8E02-446D-9D46-F4B95E26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6557D1-0559-4B7A-A271-513479AC28A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7FC05D-BBE2-4F4A-A5AF-29B62AAC981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6107E4-4581-4A96-9176-8E793575CC5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BCB0F88-A1C0-4C0C-83F2-B0646038793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12E5C8-E454-4EFF-A244-3FD6568F39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92543C-C45C-43FA-A156-B9A77E4F4DD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56C501-51FE-44DB-A7F2-E580A84577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A20382-E3F2-4829-85FD-55F19607C1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17846B-57FF-4A73-A4DB-CE933390E2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0C4186E-2550-477A-B881-63F515BD1C9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88A17CC0-7DD1-42A3-84A3-CF46A0C3783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2DE2C45-1A2F-4E08-B575-ED545C8B170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30ACEDA-3B16-4D9B-A8F1-146F6AB82E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33D655-0F77-47FA-AF05-726304D740C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EFE110E-F862-4332-8CBA-1FB8240CFF3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34CAD03-42DE-4E20-81AB-FFC4650791D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143BAE4-0ECF-4886-9A96-D40E999A49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0D228F0-360E-40CC-8E7D-1F25708309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DDBB17-4ADB-45C0-A8F4-7C0E26760AC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46CA26-9CE7-4BF5-8219-9394019721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851D88-398F-4816-AAD7-ADFF0F2BC98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784063-C602-4069-BC3F-40DDBCFB2C8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2448B56-2B46-4C24-A7C2-AD917291623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371E0E2-0A7A-4B22-BDFF-CDC53D16066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4A07492-56BF-41B6-A563-E6D8DBD61DF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8BB74CE-8C7B-4270-8143-DC00B6D13B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788F3FC-4F90-438B-9E1D-05C792882AB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ED0A6D-C79C-4540-96C5-43BE274F2B7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2D4864C-4ED4-4231-93D8-12E6F6632D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8213079-F668-46D8-AEBD-EF67E4BC1AA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01C0FE-3FB6-46F6-9AB3-D1823B4525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E9D32E-7ECA-47DC-881C-C0AD1BDF3F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E706F7-73BA-4CB3-BFFB-7FD7F936788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0F82368-ED10-4F1C-89DF-68D52A404EA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19071F5-8566-48C4-A9EE-D74789175BC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52F9F02-901F-47F9-9932-4C15FFD835B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B40EBE9-7C1C-4DC2-AF92-A5924A94A4C9}"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AAA12360-E4E6-4594-B07F-C3FBD6E28E2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5E73B294-8DB4-4D51-B9F4-C7AABA59EFD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C2A2F1D8-49AC-4672-B9D7-E10362F8FD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347E7108-408E-4080-AE6D-EDB88DB88D3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D2F34DF3-1A54-4B00-8317-EE23D06FD90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374A7C23-A6B1-4AC5-B9E1-83E6BAA1386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C4AB07D7-5337-4A41-81CC-35F236C0A4B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C91CA140-E8D4-4CDC-A0BB-24F52C014EB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B4BC52F1-896D-4311-8EF0-9F52564F33C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E9B36D00-A594-48D6-8115-B0E59BBCFAF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E6B72186-2D48-4680-AD75-3E37445ABE7B}"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C9CC9B94-B454-4676-93C1-E2162A1B3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84CC66-2BFE-4B56-9C49-8188EBAA9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CE571-61D4-430B-A7C1-FDF3ED18F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ED68B-54F6-4104-8921-A25DEBB18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70268-F80A-4926-AB9B-C84B115E0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CF977-59B6-4CDF-907A-D11CFAD94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2AC22610-53E5-4ADA-9CEE-4860C01A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118CD-D665-4468-8E59-90E1F0AE2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3F7A3-C4C1-4099-84CB-E9EA4AA31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4851F-43EC-4085-8264-6FA25C8D1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501B7-084A-499E-A541-6A7C8274E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CB914-E40B-4F0E-87FC-E4A46E773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8A0B75-CB12-4073-BAF5-0C709DB856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BF3AFC-93EF-49D8-BBC9-CDEA6A6460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DFC4C2-D1E6-4910-B080-27677E9C1F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BC3274-D6A3-4CE3-A94F-EB02F306D3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A52667-D0C4-462C-9279-F8B139E115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3BDF7D71-E54E-4FA2-93FE-A4A010266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9E33EF-8DCA-412A-9953-84BC97A566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92CE76-8338-4A13-9DE3-A03FC75988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96B4F3-D798-4224-BB63-08C2F9D8D1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63C8BA-F363-4F99-8F81-FB5E72C924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27C9D2-6ED8-4433-A4AC-685991EA5B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1AE82A-1E59-4F0E-8327-3ACBDF2594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D4A075-5021-4ADF-8CE4-B784980C82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7B3451-F0A1-4812-9AAB-471E42F1AD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D973A7-DCD3-4C8D-BB0D-7703FFFD816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786289-4D75-45C3-97EF-9E9DC12C5D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ECA8F09-56C7-4DC9-A119-0ECB819A9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847367-5956-497E-9607-8A456DE26F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FEA3F5-A709-4869-ACD9-4BA084008B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3E2FE4-6F45-467B-A839-1E22972FA7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8B2B7B-158E-4AB9-88D2-E3EE1F2CC7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F7A708-0B01-4043-9973-32C0075CF4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86D04A-3988-4AF8-BAFD-730BC34099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EF15F1-9BEE-4ED5-BE79-B5F7EFB8E5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E919AC-1088-42A5-B13C-E7FCE81656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A1A039-6871-4DC1-AE6B-305CB2C6D0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2D6395D-CFCE-425A-8232-37BC9664F7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4927DAC7-BEF2-4429-AA92-966C5A74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5E8629-0F94-4B4C-88E7-271DCD75D64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8FA4AB9-73CF-4353-8237-EA1533F89A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C939B45-A9F2-4FBC-BFF1-9D0EF5550B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4A10404-76BC-4C3A-8236-26EE2F350A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A63259-6B01-47B3-BFDD-5D73025709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19358E-FF7F-4D78-9498-F9931B1776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C42A96-251A-480C-AA02-301ECD3F25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F1EC85-7F72-48C5-8066-9A796AF881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F116B0-AF17-4DD9-9D99-4314470E27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0629E6-3D82-4A18-AA84-04F5D8D3D6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91EDE244-E763-4F0A-8740-9087AB449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BB19FC-16C3-42FB-87B2-9CF5519F69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133E796-B067-4AB0-8719-0A0DB09BD24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B06BEC4-5451-4461-8E09-B9B85563B3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E07043B-5654-42B2-B043-72B90EFF5EC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B3FD71-D9B2-4E95-9676-DDA1DDF2F2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E430DB-2FA5-42A3-8EA3-6421541BA0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669919D-FBF7-4DEB-882E-65BFC25235F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439525-46A8-436B-970D-AF9BAF2D40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648D7D-ED36-4215-BDFE-3A1A1D2A003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4F5805-D7D6-45CD-9BCC-EE07774EBD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BA4B7278-6188-43C1-9F4D-DC54DF135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DC1827-0A9A-428B-AED5-F3EB3ACCD9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EED06D-D079-4B96-8DCE-CB59DD5983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26E638-FAB5-40EE-B0EF-E66B30E186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6200F26-1799-4E1E-90D4-59F0EAA868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95DC92F-3E7D-455A-A444-7552A72B7D2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CB8522F-1372-47F8-8676-C520220558F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440AF9-16B5-40DA-9115-D07EFB6D1C0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E29E54-ADFF-4B30-883F-AE0DB66334F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E9877FB-6645-46F8-978E-A2588657B8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DC2E76-2CDC-46F8-8EE9-2156AA6498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90E64DD7-85EE-4939-9D5C-CA6C9726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8892A52-2EF4-4608-82CF-6063C820D1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982468-734A-425A-A3DD-8063AA7370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E48A8D-7C25-4AE9-9BFD-8E653E6352B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4DC891-E911-4BA6-93C9-DF4AE5BCCA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6AFA29-D048-4814-A51E-B87425EE32E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5EBFB4-8F4C-4FE4-B456-3C57E33B9DD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94E7100-072A-4A44-B83F-D61F5F0BE65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265E1EB-AD50-4184-8A18-72FE6FCA596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42F15D-58AF-4A07-9AFD-AEDBBCBA18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939D257-7378-4711-B5B3-A3867E450A2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460C-3ACD-4544-AA0C-44B0290F6680}"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78EA-5D2D-4517-A0E9-47F6316E9D9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34BB-83FE-4E62-A666-2CD5BB0126A1}"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92BE-5987-4417-9DE4-0DD087AB23B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09D2-B655-4966-A67B-F8CF19AC4B3F}"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B653-5DE2-48AF-9779-BD63792102E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63C3-45BC-417D-8D73-0F065E504E7F}"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DC87-0D09-4CF8-920A-3A3170E91F1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F39D-8B2D-432C-A6B1-1A1C4C00C068}"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E1AC-3203-42A4-A15E-135E55517C8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C82C-E6E3-4C45-8770-877F29413052}"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BAF9-39FD-43C6-B1E0-96F8AB788E7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DCCF-CA07-43BC-A1FC-D1A1EAAF19AA}"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51F5-ACAC-4E69-AA0C-353B842069F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BF6A-B763-45B5-BB03-1603F0D58646}"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1ED7-4C46-4D76-B1E0-589E458D4C2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8E28-88E4-407A-94E7-615161A1C7CD}"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A540-C97A-471C-A35E-8A21513BD05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8A3A-0047-4AC1-8E97-FA00D559FDC2}"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3035-4273-4C29-AAAB-59FA90D2FA4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7C98-C729-45F0-B3F3-73243845B303}"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66E7-92FF-4632-BE19-4CCAAFF33C4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284B-8732-4B97-BC50-3B28A6C1E049}"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7E38-EFD5-4A71-9EBC-A27AD07295C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2916000" y="1904760"/>
            <a:ext cx="6080040" cy="44053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3896"/>
                </a:solidFill>
                <a:latin typeface="Arial"/>
              </a:rPr>
              <a:t>CLARIFICATION MEETING</a:t>
            </a:r>
            <a:br>
              <a:rPr sz="3200"/>
            </a:br>
            <a:r>
              <a:rPr b="1" lang="en-ZA" sz="3200" spc="-1" strike="noStrike">
                <a:solidFill>
                  <a:srgbClr val="003896"/>
                </a:solidFill>
                <a:latin typeface="Arial"/>
              </a:rPr>
              <a:t>INVITATION TO TENDER LP0096HR </a:t>
            </a:r>
            <a:br>
              <a:rPr sz="3200"/>
            </a:br>
            <a:br>
              <a:rPr sz="3200"/>
            </a:br>
            <a:r>
              <a:rPr b="1" lang="en-ZA" sz="3200" spc="-1" strike="noStrike">
                <a:solidFill>
                  <a:srgbClr val="003896"/>
                </a:solidFill>
                <a:latin typeface="Arial"/>
              </a:rPr>
              <a:t>Calibration and minor repairs of testing equipment</a:t>
            </a:r>
            <a:br>
              <a:rPr sz="3200"/>
            </a:br>
            <a:r>
              <a:rPr b="1" lang="en-ZA" sz="3200" spc="-1" strike="noStrike">
                <a:solidFill>
                  <a:srgbClr val="003896"/>
                </a:solidFill>
                <a:latin typeface="Arial"/>
              </a:rPr>
              <a:t> Limlanga Cluster</a:t>
            </a:r>
            <a:br>
              <a:rPr sz="3200"/>
            </a:br>
            <a:br>
              <a:rPr sz="3200"/>
            </a:br>
            <a:r>
              <a:rPr b="1" lang="en-ZA" sz="3200" spc="-1" strike="noStrike">
                <a:solidFill>
                  <a:srgbClr val="003896"/>
                </a:solidFill>
                <a:latin typeface="Arial"/>
              </a:rPr>
              <a:t>Closing Date  </a:t>
            </a:r>
            <a:br>
              <a:rPr sz="3200"/>
            </a:br>
            <a:br>
              <a:rPr sz="3200"/>
            </a:br>
            <a:r>
              <a:rPr b="1" lang="en-ZA" sz="3200" spc="-1" strike="noStrike">
                <a:solidFill>
                  <a:srgbClr val="003896"/>
                </a:solidFill>
                <a:latin typeface="Arial"/>
              </a:rPr>
              <a:t>02 December 2022 </a:t>
            </a:r>
            <a:br>
              <a:rPr sz="3200"/>
            </a:br>
            <a:r>
              <a:rPr b="1" lang="en-ZA" sz="3200" spc="-1" strike="noStrike">
                <a:solidFill>
                  <a:srgbClr val="003896"/>
                </a:solidFill>
                <a:latin typeface="Arial"/>
              </a:rPr>
              <a:t>@ 10:00am</a:t>
            </a:r>
            <a:endParaRPr b="0" lang="en-US" sz="32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 &amp; I Undertaking</a:t>
            </a:r>
            <a:endParaRPr b="0" lang="en-US" sz="2400" spc="-1" strike="noStrike">
              <a:solidFill>
                <a:srgbClr val="ffffff"/>
              </a:solidFill>
              <a:latin typeface="Arial"/>
            </a:endParaRPr>
          </a:p>
        </p:txBody>
      </p:sp>
      <p:sp>
        <p:nvSpPr>
          <p:cNvPr id="690" name=""/>
          <p:cNvSpPr txBox="1"/>
          <p:nvPr/>
        </p:nvSpPr>
        <p:spPr>
          <a:xfrm>
            <a:off x="436680" y="1479240"/>
            <a:ext cx="8378640" cy="194940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3896"/>
                </a:solidFill>
                <a:uFillTx/>
                <a:latin typeface="Arial"/>
              </a:rPr>
              <a:t>Skills Development </a:t>
            </a:r>
            <a:endParaRPr b="0" lang="en-US" sz="2000" spc="-1" strike="noStrike">
              <a:solidFill>
                <a:srgbClr val="003896"/>
              </a:solidFill>
              <a:latin typeface="Arial"/>
            </a:endParaRPr>
          </a:p>
        </p:txBody>
      </p:sp>
      <p:sp>
        <p:nvSpPr>
          <p:cNvPr id="69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CDE5-7864-4D8E-9041-384F4F54898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F927-0460-4D3C-A9F7-581C55D8B81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93" name=""/>
          <p:cNvGraphicFramePr/>
          <p:nvPr/>
        </p:nvGraphicFramePr>
        <p:xfrm>
          <a:off x="328680" y="2060640"/>
          <a:ext cx="7915320" cy="1152360"/>
        </p:xfrm>
        <a:graphic>
          <a:graphicData uri="http://schemas.openxmlformats.org/drawingml/2006/table">
            <a:tbl>
              <a:tblPr/>
              <a:tblGrid>
                <a:gridCol w="2846160"/>
                <a:gridCol w="2176560"/>
                <a:gridCol w="2892600"/>
              </a:tblGrid>
              <a:tr h="453960">
                <a:tc>
                  <a:txBody>
                    <a:bodyPr lIns="68400" rIns="684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kill Type</a:t>
                      </a:r>
                      <a:endParaRPr b="0" lang="en-US" sz="14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skom Target</a:t>
                      </a:r>
                      <a:endParaRPr b="0" lang="en-US" sz="14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Tenderer's Proposal</a:t>
                      </a:r>
                      <a:endParaRPr b="0" lang="en-US" sz="14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698400">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alibration Technician</a:t>
                      </a:r>
                      <a:endParaRPr b="0" lang="en-US" sz="14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400" rIns="684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3896"/>
                          </a:solidFill>
                          <a:latin typeface="Arial"/>
                        </a:rPr>
                        <a:t>2</a:t>
                      </a:r>
                      <a:endParaRPr b="0" lang="en-US" sz="14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3896"/>
                          </a:solidFill>
                          <a:latin typeface="Arial"/>
                        </a:rPr>
                        <a:t> </a:t>
                      </a:r>
                      <a:endParaRPr b="0" lang="en-US" sz="14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bl>
          </a:graphicData>
        </a:graphic>
      </p:graphicFrame>
      <p:sp>
        <p:nvSpPr>
          <p:cNvPr id="694" name="TextBox 11"/>
          <p:cNvSpPr/>
          <p:nvPr/>
        </p:nvSpPr>
        <p:spPr>
          <a:xfrm>
            <a:off x="554040" y="3241800"/>
            <a:ext cx="6318360" cy="1582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spcAft>
                <a:spcPts val="1001"/>
              </a:spcAft>
              <a:buClr>
                <a:srgbClr val="00389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85840" indent="-285840" algn="just">
              <a:lnSpc>
                <a:spcPct val="115000"/>
              </a:lnSpc>
              <a:spcAft>
                <a:spcPts val="1001"/>
              </a:spcAft>
              <a:buClr>
                <a:srgbClr val="00389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3896"/>
                </a:solidFill>
                <a:uFillTx/>
                <a:latin typeface="Arial"/>
                <a:ea typeface="Calibri"/>
              </a:rPr>
              <a:t>Job Opportunities </a:t>
            </a:r>
            <a:endParaRPr b="0" lang="en-US" sz="2000" spc="-1" strike="noStrike">
              <a:solidFill>
                <a:srgbClr val="003896"/>
              </a:solidFill>
              <a:latin typeface="Arial"/>
            </a:endParaRPr>
          </a:p>
          <a:p>
            <a:pPr marL="285840" indent="-285840" algn="just">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ea typeface="Calibri"/>
              </a:rPr>
              <a:t>Tenderer to indicate number of Jobs to be created and/or retained from this contract</a:t>
            </a:r>
            <a:r>
              <a:rPr b="1" lang="en-ZA" sz="2000" spc="-1" strike="noStrike" u="sng">
                <a:solidFill>
                  <a:srgbClr val="003896"/>
                </a:solidFill>
                <a:uFillTx/>
                <a:latin typeface="Arial"/>
                <a:ea typeface="Calibri"/>
              </a:rPr>
              <a:t> </a:t>
            </a:r>
            <a:endParaRPr b="0" lang="en-US" sz="2000" spc="-1" strike="noStrike">
              <a:solidFill>
                <a:srgbClr val="003896"/>
              </a:solidFill>
              <a:latin typeface="Arial"/>
            </a:endParaRPr>
          </a:p>
        </p:txBody>
      </p:sp>
      <p:graphicFrame>
        <p:nvGraphicFramePr>
          <p:cNvPr id="695" name=""/>
          <p:cNvGraphicFramePr/>
          <p:nvPr/>
        </p:nvGraphicFramePr>
        <p:xfrm>
          <a:off x="436680" y="5013360"/>
          <a:ext cx="8378640" cy="1008000"/>
        </p:xfrm>
        <a:graphic>
          <a:graphicData uri="http://schemas.openxmlformats.org/drawingml/2006/table">
            <a:tbl>
              <a:tblPr/>
              <a:tblGrid>
                <a:gridCol w="4189320"/>
                <a:gridCol w="4189320"/>
              </a:tblGrid>
              <a:tr h="368280">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Number of Jobs to be created</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Number of Jobs to be retained</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639720">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 </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3896"/>
                          </a:solidFill>
                          <a:latin typeface="Arial"/>
                        </a:rPr>
                        <a:t> </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kom Tender Bulletin and National Treasury e-Tender Portal</a:t>
            </a:r>
            <a:endParaRPr b="0" lang="en-US" sz="2400" spc="-1" strike="noStrike">
              <a:solidFill>
                <a:srgbClr val="ffffff"/>
              </a:solidFill>
              <a:latin typeface="Arial"/>
            </a:endParaRPr>
          </a:p>
        </p:txBody>
      </p:sp>
      <p:sp>
        <p:nvSpPr>
          <p:cNvPr id="69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E44C-FE96-4225-908A-B3C8409AF80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8962-4E29-43A2-B5E1-34624C58EC1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99" name="Rectangle 3"/>
          <p:cNvSpPr/>
          <p:nvPr/>
        </p:nvSpPr>
        <p:spPr>
          <a:xfrm>
            <a:off x="406440" y="1125360"/>
            <a:ext cx="8408880" cy="1295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Tender documentation can be downloaded from the following: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 </a:t>
            </a:r>
            <a:endParaRPr b="0" lang="en-US" sz="2000" spc="-1" strike="noStrike">
              <a:solidFill>
                <a:srgbClr val="003896"/>
              </a:solidFill>
              <a:latin typeface="Arial"/>
            </a:endParaRPr>
          </a:p>
        </p:txBody>
      </p:sp>
      <p:sp>
        <p:nvSpPr>
          <p:cNvPr id="700"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1.</a:t>
            </a:r>
            <a:r>
              <a:rPr b="0" lang="en-US" sz="2000" spc="-1" strike="noStrike">
                <a:solidFill>
                  <a:srgbClr val="003896"/>
                </a:solidFill>
                <a:latin typeface="Arial"/>
              </a:rPr>
              <a:t>	</a:t>
            </a:r>
            <a:r>
              <a:rPr b="0" lang="en-US" sz="2000" spc="-1" strike="noStrike">
                <a:solidFill>
                  <a:srgbClr val="003896"/>
                </a:solidFill>
                <a:latin typeface="Arial"/>
              </a:rPr>
              <a:t>http://tenderbulletin.eskom.co.za/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2.</a:t>
            </a:r>
            <a:r>
              <a:rPr b="0" lang="en-US" sz="2000" spc="-1" strike="noStrike">
                <a:solidFill>
                  <a:srgbClr val="003896"/>
                </a:solidFill>
                <a:latin typeface="Arial"/>
              </a:rPr>
              <a:t>	</a:t>
            </a:r>
            <a:r>
              <a:rPr b="0" lang="en-US" sz="2000" spc="-1" strike="noStrike">
                <a:solidFill>
                  <a:srgbClr val="003896"/>
                </a:solidFill>
                <a:latin typeface="Arial"/>
              </a:rPr>
              <a:t>www.etenders.gov.za</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lvl="1" marL="45072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nder documentation should be packaged in the following format</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702" name=""/>
          <p:cNvSpPr txBox="1"/>
          <p:nvPr/>
        </p:nvSpPr>
        <p:spPr>
          <a:xfrm>
            <a:off x="31320" y="938160"/>
            <a:ext cx="8572680" cy="54626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Please ensure that each part is packed separately as each of the parts are evaluated independently i.e. you should submit an original for each part and one identical copy of each part therefore in total your submission should consist of 6 parts.</a:t>
            </a:r>
            <a:endParaRPr b="0" lang="en-US" sz="2000" spc="-1" strike="noStrike">
              <a:solidFill>
                <a:srgbClr val="003896"/>
              </a:solidFill>
              <a:latin typeface="Arial"/>
            </a:endParaRPr>
          </a:p>
        </p:txBody>
      </p:sp>
      <p:sp>
        <p:nvSpPr>
          <p:cNvPr id="70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395C-FFB2-4368-86FA-A3D0C286A02E}"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0C83-8162-4CF1-91F2-C4FC090E1AA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705" name=""/>
          <p:cNvGraphicFramePr/>
          <p:nvPr/>
        </p:nvGraphicFramePr>
        <p:xfrm>
          <a:off x="57240" y="955800"/>
          <a:ext cx="8424720" cy="3152520"/>
        </p:xfrm>
        <a:graphic>
          <a:graphicData uri="http://schemas.openxmlformats.org/drawingml/2006/table">
            <a:tbl>
              <a:tblPr/>
              <a:tblGrid>
                <a:gridCol w="6340320"/>
                <a:gridCol w="1152720"/>
                <a:gridCol w="931680"/>
              </a:tblGrid>
              <a:tr h="305280">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a:t>
                      </a:r>
                      <a:endParaRPr b="0" lang="en-US" sz="2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riginal</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py</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1105920">
                <a:tc>
                  <a:txBody>
                    <a:bodyPr lIns="68760" rIns="68760" tIns="0" bIns="0" anchor="t">
                      <a:noAutofit/>
                    </a:bodyPr>
                    <a:p>
                      <a:pPr algn="jus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 1 - Indexed</a:t>
                      </a:r>
                      <a:endParaRPr b="0" lang="en-US" sz="1800" spc="-1" strike="noStrike">
                        <a:solidFill>
                          <a:srgbClr val="003896"/>
                        </a:solidFill>
                        <a:latin typeface="Arial"/>
                      </a:endParaRPr>
                    </a:p>
                    <a:p>
                      <a:pPr algn="jus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 comprise of all </a:t>
                      </a:r>
                      <a:r>
                        <a:rPr b="1" lang="en-GB" sz="1800" spc="-1" strike="noStrike" u="sng">
                          <a:solidFill>
                            <a:srgbClr val="ffffff"/>
                          </a:solidFill>
                          <a:uFillTx/>
                          <a:latin typeface="Arial"/>
                        </a:rPr>
                        <a:t>Commercial</a:t>
                      </a:r>
                      <a:r>
                        <a:rPr b="1" lang="en-GB" sz="1800" spc="-1" strike="noStrike">
                          <a:solidFill>
                            <a:srgbClr val="ffffff"/>
                          </a:solidFill>
                          <a:latin typeface="Arial"/>
                        </a:rPr>
                        <a:t> tender returnable requirements including Local Content requirements   </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918360">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 2 - Indexed</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 comprise of the </a:t>
                      </a:r>
                      <a:r>
                        <a:rPr b="1" lang="en-GB" sz="1800" spc="-1" strike="noStrike" u="sng">
                          <a:solidFill>
                            <a:srgbClr val="ffffff"/>
                          </a:solidFill>
                          <a:uFillTx/>
                          <a:latin typeface="Arial"/>
                        </a:rPr>
                        <a:t>Technical</a:t>
                      </a:r>
                      <a:r>
                        <a:rPr b="1" lang="en-GB" sz="1800" spc="-1" strike="noStrike">
                          <a:solidFill>
                            <a:srgbClr val="ffffff"/>
                          </a:solidFill>
                          <a:latin typeface="Arial"/>
                        </a:rPr>
                        <a:t> Requirements </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823320">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 3 - Indexed</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 comprise of the Quality Requirements</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F6FD-DA32-40E0-A898-5DA0BFD3DDE7}"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2786-DD1E-432C-B169-7566FDE4FED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Commercial Requirement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709" name="Rectangle 3"/>
          <p:cNvSpPr/>
          <p:nvPr/>
        </p:nvSpPr>
        <p:spPr>
          <a:xfrm>
            <a:off x="755640" y="981000"/>
            <a:ext cx="8137440" cy="5184720"/>
          </a:xfrm>
          <a:prstGeom prst="rect">
            <a:avLst/>
          </a:prstGeom>
          <a:noFill/>
          <a:ln w="0">
            <a:noFill/>
          </a:ln>
        </p:spPr>
        <p:style>
          <a:lnRef idx="0"/>
          <a:fillRef idx="0"/>
          <a:effectRef idx="0"/>
          <a:fontRef idx="minor"/>
        </p:style>
        <p:txBody>
          <a:bodyPr lIns="90000" rIns="90000" tIns="46800" bIns="46800" anchor="t">
            <a:normAutofit fontScale="99000"/>
          </a:bodyPr>
          <a:p>
            <a:pPr marL="263880" indent="-263880" algn="just">
              <a:lnSpc>
                <a:spcPct val="100000"/>
              </a:lnSpc>
              <a:spcBef>
                <a:spcPts val="300"/>
              </a:spcBef>
              <a:spcAft>
                <a:spcPts val="300"/>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Shared resources (e.g. but not limited to test certificates) shall not be accepted. </a:t>
            </a:r>
            <a:r>
              <a:rPr b="1" lang="en-GB" sz="1600" spc="-1" strike="noStrike">
                <a:solidFill>
                  <a:srgbClr val="003896"/>
                </a:solidFill>
                <a:latin typeface="Arial"/>
                <a:ea typeface="Calibri"/>
              </a:rPr>
              <a:t>Tenderer(s) shall be disqualified if found to have misrepresented information on the Tender document </a:t>
            </a:r>
            <a:endParaRPr b="0" lang="en-US" sz="1600" spc="-1" strike="noStrike">
              <a:solidFill>
                <a:srgbClr val="003896"/>
              </a:solidFill>
              <a:latin typeface="Arial"/>
            </a:endParaRPr>
          </a:p>
          <a:p>
            <a:pPr marL="263880" indent="-263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No </a:t>
            </a:r>
            <a:r>
              <a:rPr b="0" lang="en-US" sz="1600" spc="-1" strike="noStrike" u="sng">
                <a:solidFill>
                  <a:srgbClr val="003896"/>
                </a:solidFill>
                <a:uFillTx/>
                <a:latin typeface="Arial"/>
              </a:rPr>
              <a:t>correction fluid</a:t>
            </a:r>
            <a:r>
              <a:rPr b="0" lang="en-US" sz="1600" spc="-1" strike="noStrike">
                <a:solidFill>
                  <a:srgbClr val="003896"/>
                </a:solidFill>
                <a:latin typeface="Arial"/>
              </a:rPr>
              <a:t> to be used on any part of the tender documents</a:t>
            </a:r>
            <a:endParaRPr b="0" lang="en-US" sz="1600" spc="-1" strike="noStrike">
              <a:solidFill>
                <a:srgbClr val="003896"/>
              </a:solidFill>
              <a:latin typeface="Arial"/>
            </a:endParaRPr>
          </a:p>
          <a:p>
            <a:pPr marL="263880" indent="-26388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Tenderers are encouraged to continuously check Eskom tender bulletin for the latest tender updates during this clarification period. This will enable tenderers to familiarise themselves with any new developments in order to tender accurately</a:t>
            </a:r>
            <a:endParaRPr b="0" lang="en-US" sz="1600" spc="-1" strike="noStrike">
              <a:solidFill>
                <a:srgbClr val="003896"/>
              </a:solidFill>
              <a:latin typeface="Arial"/>
            </a:endParaRPr>
          </a:p>
          <a:p>
            <a:pPr marL="263880" indent="-263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All certificates submitted must be </a:t>
            </a:r>
            <a:r>
              <a:rPr b="0" lang="en-US" sz="1600" spc="-1" strike="noStrike" u="sng">
                <a:solidFill>
                  <a:srgbClr val="003896"/>
                </a:solidFill>
                <a:uFillTx/>
                <a:latin typeface="Arial"/>
              </a:rPr>
              <a:t>valid</a:t>
            </a:r>
            <a:r>
              <a:rPr b="0" lang="en-US" sz="1600" spc="-1" strike="noStrike">
                <a:solidFill>
                  <a:srgbClr val="003896"/>
                </a:solidFill>
                <a:latin typeface="Arial"/>
              </a:rPr>
              <a:t> </a:t>
            </a:r>
            <a:endParaRPr b="0" lang="en-US" sz="1600" spc="-1" strike="noStrike">
              <a:solidFill>
                <a:srgbClr val="003896"/>
              </a:solidFill>
              <a:latin typeface="Arial"/>
            </a:endParaRPr>
          </a:p>
          <a:p>
            <a:pPr marL="263880" indent="-263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Tender documents must be </a:t>
            </a:r>
            <a:r>
              <a:rPr b="0" lang="en-US" sz="1600" spc="-1" strike="noStrike" u="sng">
                <a:solidFill>
                  <a:srgbClr val="003896"/>
                </a:solidFill>
                <a:uFillTx/>
                <a:latin typeface="Arial"/>
              </a:rPr>
              <a:t>tamper proof</a:t>
            </a:r>
            <a:r>
              <a:rPr b="0" lang="en-US" sz="1600" spc="-1" strike="noStrike">
                <a:solidFill>
                  <a:srgbClr val="003896"/>
                </a:solidFill>
                <a:latin typeface="Arial"/>
              </a:rPr>
              <a:t> and </a:t>
            </a:r>
            <a:r>
              <a:rPr b="0" lang="en-US" sz="1600" spc="-1" strike="noStrike" u="sng">
                <a:solidFill>
                  <a:srgbClr val="003896"/>
                </a:solidFill>
                <a:uFillTx/>
                <a:latin typeface="Arial"/>
              </a:rPr>
              <a:t>secured</a:t>
            </a:r>
            <a:endParaRPr b="0" lang="en-US" sz="1600" spc="-1" strike="noStrike">
              <a:solidFill>
                <a:srgbClr val="003896"/>
              </a:solidFill>
              <a:latin typeface="Arial"/>
            </a:endParaRPr>
          </a:p>
          <a:p>
            <a:pPr marL="263880" indent="-26388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All queries to be addressed to the Buyer (Refer Item 1.1 of the Invitation to Tender for buyer’s contact details) in writing. No telephone calls will be accepted for queries regarding this tender</a:t>
            </a:r>
            <a:endParaRPr b="0" lang="en-US" sz="1600" spc="-1" strike="noStrike">
              <a:solidFill>
                <a:srgbClr val="003896"/>
              </a:solidFill>
              <a:latin typeface="Arial"/>
            </a:endParaRPr>
          </a:p>
          <a:p>
            <a:pPr marL="263880" indent="-26388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Closing time for all queries is 5 working days prior to tender closing date, refer to </a:t>
            </a:r>
            <a:r>
              <a:rPr b="1" lang="fr-FR" sz="1600" spc="-1" strike="noStrike">
                <a:solidFill>
                  <a:srgbClr val="003896"/>
                </a:solidFill>
                <a:latin typeface="Arial"/>
              </a:rPr>
              <a:t>2.17 (Clarification on enquiry documents)  of the Invitation to Tender document</a:t>
            </a:r>
            <a:endParaRPr b="0" lang="en-US" sz="16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1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48B8-7339-4B0E-BD61-1A669C255A3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B235-CCED-47F1-A9C3-FD817B6110D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13"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14" name="Picture 3" descr=""/>
          <p:cNvPicPr/>
          <p:nvPr/>
        </p:nvPicPr>
        <p:blipFill>
          <a:blip r:embed="rId2"/>
          <a:srcRect l="15775" t="9409" r="8589" b="0"/>
          <a:stretch/>
        </p:blipFill>
        <p:spPr>
          <a:xfrm>
            <a:off x="4991040" y="2562120"/>
            <a:ext cx="2276640" cy="2044800"/>
          </a:xfrm>
          <a:prstGeom prst="rect">
            <a:avLst/>
          </a:prstGeom>
          <a:ln w="0">
            <a:noFill/>
          </a:ln>
        </p:spPr>
      </p:pic>
      <p:sp>
        <p:nvSpPr>
          <p:cNvPr id="715" name="Rounded Rectangular Callout 13"/>
          <p:cNvSpPr/>
          <p:nvPr/>
        </p:nvSpPr>
        <p:spPr>
          <a:xfrm>
            <a:off x="2565360" y="4149720"/>
            <a:ext cx="1995480" cy="200484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16" name="Picture 3" descr=""/>
          <p:cNvPicPr/>
          <p:nvPr/>
        </p:nvPicPr>
        <p:blipFill>
          <a:blip r:embed="rId3"/>
          <a:stretch/>
        </p:blipFill>
        <p:spPr>
          <a:xfrm>
            <a:off x="2879640" y="1197000"/>
            <a:ext cx="3959280" cy="3255840"/>
          </a:xfrm>
          <a:prstGeom prst="rect">
            <a:avLst/>
          </a:prstGeom>
          <a:ln w="0">
            <a:noFill/>
          </a:ln>
        </p:spPr>
      </p:pic>
      <p:sp>
        <p:nvSpPr>
          <p:cNvPr id="717"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ring binder during the stamping and handling process</a:t>
            </a:r>
            <a:endParaRPr b="0" lang="en-US" sz="18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1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1395-B373-4055-8B33-6BAA24B1AF15}"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2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ECDA-8E0A-4C37-83A0-17838AAA1FC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1" name="Picture 3" descr=""/>
          <p:cNvPicPr/>
          <p:nvPr/>
        </p:nvPicPr>
        <p:blipFill>
          <a:blip r:embed="rId1"/>
          <a:stretch/>
        </p:blipFill>
        <p:spPr>
          <a:xfrm>
            <a:off x="3564000" y="1197000"/>
            <a:ext cx="2884320" cy="2163600"/>
          </a:xfrm>
          <a:prstGeom prst="rect">
            <a:avLst/>
          </a:prstGeom>
          <a:ln w="0">
            <a:noFill/>
          </a:ln>
        </p:spPr>
      </p:pic>
      <p:pic>
        <p:nvPicPr>
          <p:cNvPr id="722"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23"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24" name="Picture 3" descr=""/>
          <p:cNvPicPr/>
          <p:nvPr/>
        </p:nvPicPr>
        <p:blipFill>
          <a:blip r:embed="rId3"/>
          <a:stretch/>
        </p:blipFill>
        <p:spPr>
          <a:xfrm>
            <a:off x="4419720" y="1197000"/>
            <a:ext cx="4081320" cy="3354480"/>
          </a:xfrm>
          <a:prstGeom prst="rect">
            <a:avLst/>
          </a:prstGeom>
          <a:ln w="0">
            <a:noFill/>
          </a:ln>
        </p:spPr>
      </p:pic>
      <p:sp>
        <p:nvSpPr>
          <p:cNvPr id="725"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 is not tamper proof because it is possible to easily remove pages </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ners pose a safety risk when handling tender documents (cutting)</a:t>
            </a:r>
            <a:endParaRPr b="0" lang="en-US" sz="20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iers must ensure:</a:t>
            </a:r>
            <a:endParaRPr b="0" lang="en-US" sz="2400" spc="-1" strike="noStrike">
              <a:solidFill>
                <a:srgbClr val="ffffff"/>
              </a:solidFill>
              <a:latin typeface="Arial"/>
            </a:endParaRPr>
          </a:p>
        </p:txBody>
      </p:sp>
      <p:sp>
        <p:nvSpPr>
          <p:cNvPr id="727" name=""/>
          <p:cNvSpPr txBox="1"/>
          <p:nvPr/>
        </p:nvSpPr>
        <p:spPr>
          <a:xfrm>
            <a:off x="526680" y="1125000"/>
            <a:ext cx="7861320" cy="504540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o be tamper proof  - to ensure that no pages may be removed or added during the evaluation and handling process</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to be smooth and efficient</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sealed with binding tape to ensure that the documents are safe to handle as well as tamper proof</a:t>
            </a:r>
            <a:endParaRPr b="0" lang="en-US" sz="2000" spc="-1" strike="noStrike">
              <a:solidFill>
                <a:srgbClr val="003896"/>
              </a:solidFill>
              <a:latin typeface="Arial"/>
            </a:endParaRPr>
          </a:p>
          <a:p>
            <a:pPr marL="266760" indent="-266760">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marL="266760" indent="-266760">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2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E4B7-E548-4A21-A5A4-ECEF5E476B8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2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DE36-2446-4421-A4B4-808A113CDC9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3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F111-E2EA-44FD-97CD-64F464E9611A}"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3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2CA2-4B80-4489-8185-BA3D416A00C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33" name="Picture 8" descr=""/>
          <p:cNvPicPr/>
          <p:nvPr/>
        </p:nvPicPr>
        <p:blipFill>
          <a:blip r:embed="rId1"/>
          <a:stretch/>
        </p:blipFill>
        <p:spPr>
          <a:xfrm>
            <a:off x="457200" y="1793880"/>
            <a:ext cx="3095640" cy="3095640"/>
          </a:xfrm>
          <a:prstGeom prst="rect">
            <a:avLst/>
          </a:prstGeom>
          <a:ln w="0">
            <a:noFill/>
          </a:ln>
        </p:spPr>
      </p:pic>
      <p:pic>
        <p:nvPicPr>
          <p:cNvPr id="734" name="Picture 4" descr=""/>
          <p:cNvPicPr/>
          <p:nvPr/>
        </p:nvPicPr>
        <p:blipFill>
          <a:blip r:embed="rId2"/>
          <a:stretch/>
        </p:blipFill>
        <p:spPr>
          <a:xfrm>
            <a:off x="6173640" y="1979640"/>
            <a:ext cx="2590920" cy="1920960"/>
          </a:xfrm>
          <a:prstGeom prst="rect">
            <a:avLst/>
          </a:prstGeom>
          <a:ln w="0">
            <a:noFill/>
          </a:ln>
        </p:spPr>
      </p:pic>
      <p:pic>
        <p:nvPicPr>
          <p:cNvPr id="735" name="Picture 2" descr=""/>
          <p:cNvPicPr/>
          <p:nvPr/>
        </p:nvPicPr>
        <p:blipFill>
          <a:blip r:embed="rId3"/>
          <a:stretch/>
        </p:blipFill>
        <p:spPr>
          <a:xfrm rot="1370400">
            <a:off x="3746520" y="2815920"/>
            <a:ext cx="4844880" cy="2894040"/>
          </a:xfrm>
          <a:prstGeom prst="rect">
            <a:avLst/>
          </a:prstGeom>
          <a:ln w="0">
            <a:noFill/>
          </a:ln>
        </p:spPr>
      </p:pic>
      <p:sp>
        <p:nvSpPr>
          <p:cNvPr id="736"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a:t>
            </a:r>
            <a:endParaRPr b="0" lang="en-US" sz="2400" spc="-1" strike="noStrike">
              <a:solidFill>
                <a:srgbClr val="ffffff"/>
              </a:solidFill>
              <a:latin typeface="Arial"/>
            </a:endParaRPr>
          </a:p>
        </p:txBody>
      </p:sp>
      <p:sp>
        <p:nvSpPr>
          <p:cNvPr id="73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A1AB-18A2-400C-9AD9-DB691B3E4DB7}"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3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352B-A3EF-473F-B66D-7F0A7FD1F43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40" name=""/>
          <p:cNvSpPr txBox="1"/>
          <p:nvPr/>
        </p:nvSpPr>
        <p:spPr>
          <a:xfrm>
            <a:off x="436680" y="1436760"/>
            <a:ext cx="8378640" cy="5045040"/>
          </a:xfrm>
          <a:prstGeom prst="rect">
            <a:avLst/>
          </a:prstGeom>
          <a:noFill/>
          <a:ln w="0">
            <a:noFill/>
          </a:ln>
        </p:spPr>
        <p:txBody>
          <a:bodyPr anchor="t">
            <a:normAutofit fontScale="98000"/>
          </a:bodyPr>
          <a:p>
            <a:pPr algn="just">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ease note </a:t>
            </a:r>
            <a:r>
              <a:rPr b="0" lang="en-US" sz="2400" spc="-1" strike="noStrike">
                <a:solidFill>
                  <a:srgbClr val="003896"/>
                </a:solidFill>
                <a:latin typeface="Arial"/>
              </a:rPr>
              <a:t>that this clarification presentation will be loaded on the Eskom Tender Bulletin and the National Treasury e-tenders portals as they will serve as minutes of the clarification meeting.</a:t>
            </a:r>
            <a:endParaRPr b="0" lang="en-US" sz="2400" spc="-1" strike="noStrike">
              <a:solidFill>
                <a:srgbClr val="003896"/>
              </a:solidFill>
              <a:latin typeface="Arial"/>
            </a:endParaRPr>
          </a:p>
          <a:p>
            <a:pPr algn="just">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ease also </a:t>
            </a:r>
            <a:r>
              <a:rPr b="0" lang="en-US" sz="2400" spc="-1" strike="noStrike">
                <a:solidFill>
                  <a:srgbClr val="003896"/>
                </a:solidFill>
                <a:latin typeface="Arial"/>
              </a:rPr>
              <a:t>note that questions and answers will be loaded on the Eskom Tender Bulletin and the National Treasury e-tenders portals. </a:t>
            </a:r>
            <a:endParaRPr b="0" lang="en-US" sz="2400" spc="-1" strike="noStrike">
              <a:solidFill>
                <a:srgbClr val="003896"/>
              </a:solidFill>
              <a:latin typeface="Arial"/>
            </a:endParaRPr>
          </a:p>
          <a:p>
            <a:pPr algn="just">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ease note </a:t>
            </a:r>
            <a:r>
              <a:rPr b="0" lang="en-US" sz="2400" spc="-1" strike="noStrike">
                <a:solidFill>
                  <a:srgbClr val="003896"/>
                </a:solidFill>
                <a:latin typeface="Arial"/>
              </a:rPr>
              <a:t>that questions should always be sent in writing to the email address stipulated in the Invitation to Tender.  Please do not address questions to any Eskom email addresses of persons you may know working for Eskom whether they be employees in the Buying, Safety, Environmental, Quality, Technical or SDL&amp;I Sections.</a:t>
            </a:r>
            <a:endParaRPr b="0" lang="en-US" sz="24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742" name="Picture 56" descr=""/>
          <p:cNvPicPr/>
          <p:nvPr/>
        </p:nvPicPr>
        <p:blipFill>
          <a:blip r:embed="rId2"/>
          <a:stretch/>
        </p:blipFill>
        <p:spPr>
          <a:xfrm>
            <a:off x="5435640" y="6213600"/>
            <a:ext cx="3197160" cy="314280"/>
          </a:xfrm>
          <a:prstGeom prst="rect">
            <a:avLst/>
          </a:prstGeom>
          <a:ln w="0">
            <a:noFill/>
          </a:ln>
        </p:spPr>
      </p:pic>
      <p:sp>
        <p:nvSpPr>
          <p:cNvPr id="743"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ICATION MEETING of Tender LP0096HR – Calibration of Testing Equipment</a:t>
            </a:r>
            <a:endParaRPr b="0" lang="en-US" sz="2400" spc="-1" strike="noStrike">
              <a:solidFill>
                <a:srgbClr val="ffffff"/>
              </a:solidFill>
              <a:latin typeface="Arial"/>
            </a:endParaRPr>
          </a:p>
        </p:txBody>
      </p:sp>
      <p:sp>
        <p:nvSpPr>
          <p:cNvPr id="657" name=""/>
          <p:cNvSpPr txBox="1"/>
          <p:nvPr/>
        </p:nvSpPr>
        <p:spPr>
          <a:xfrm>
            <a:off x="436680" y="1197000"/>
            <a:ext cx="8378640" cy="5284800"/>
          </a:xfrm>
          <a:prstGeom prst="rect">
            <a:avLst/>
          </a:prstGeom>
          <a:noFill/>
          <a:ln w="0">
            <a:noFill/>
          </a:ln>
        </p:spPr>
        <p:txBody>
          <a:bodyPr anchor="t">
            <a:normAutofit fontScale="99000"/>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WELCOME</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The meeting will start at 11:00</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Please note that the meeting will be recorded</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Keep your microphone muted unless given an opportunity to speak</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Please raise your hand when you want to comment or raise a question</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Write down any questions you might have during the presentations</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Enough time will be given for questions after each presentation</a:t>
            </a:r>
            <a:endParaRPr b="0" lang="en-US" sz="2000" spc="-1" strike="noStrike">
              <a:solidFill>
                <a:srgbClr val="003896"/>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THANK YOU</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5FDC-3400-42AD-BEF1-A80C3091C21B}"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5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AA98-A61C-4884-B35D-B922A024F33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6FD3-B667-46A2-AE34-BDD6F23919DA}"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F875-4C4E-49B2-9DB9-AC3956D402D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663" name="Rectangle 3"/>
          <p:cNvSpPr/>
          <p:nvPr/>
        </p:nvSpPr>
        <p:spPr>
          <a:xfrm>
            <a:off x="108000" y="1052640"/>
            <a:ext cx="8785080" cy="5805360"/>
          </a:xfrm>
          <a:prstGeom prst="rect">
            <a:avLst/>
          </a:prstGeom>
          <a:noFill/>
          <a:ln w="0">
            <a:noFill/>
          </a:ln>
        </p:spPr>
        <p:style>
          <a:lnRef idx="0"/>
          <a:fillRef idx="0"/>
          <a:effectRef idx="0"/>
          <a:fontRef idx="minor"/>
        </p:style>
        <p:txBody>
          <a:bodyPr lIns="90000" rIns="90000" tIns="46800" bIns="46800" anchor="t">
            <a:normAutofit/>
          </a:bodyPr>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o assist tenderers on the requirements for this tender by explaining important information which will enable them to compile the tender documents accurately.</a:t>
            </a:r>
            <a:endParaRPr b="0" lang="en-US" sz="2400" spc="-1" strike="noStrike">
              <a:solidFill>
                <a:srgbClr val="003896"/>
              </a:solidFill>
              <a:latin typeface="Arial"/>
            </a:endParaRPr>
          </a:p>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o explain the implications of the evaluation process and the evaluation phases which the tender will be subjected to.</a:t>
            </a:r>
            <a:endParaRPr b="0" lang="en-US" sz="2400" spc="-1" strike="noStrike">
              <a:solidFill>
                <a:srgbClr val="003896"/>
              </a:solidFill>
              <a:latin typeface="Arial"/>
            </a:endParaRPr>
          </a:p>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All questions and answers covered during this clarification meeting will be published on the Eskom Tender Bulletin and the National Treasury e-Tendering website</a:t>
            </a:r>
            <a:endParaRPr b="0" lang="en-US" sz="2400" spc="-1" strike="noStrike">
              <a:solidFill>
                <a:srgbClr val="003896"/>
              </a:solidFill>
              <a:latin typeface="Arial"/>
            </a:endParaRPr>
          </a:p>
          <a:p>
            <a:pPr marL="266760" indent="-26676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6680"/>
            <a:ext cx="651996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AGENDA</a:t>
            </a:r>
            <a:endParaRPr b="0" lang="en-US" sz="3200" spc="-1" strike="noStrike">
              <a:solidFill>
                <a:srgbClr val="ffffff"/>
              </a:solidFill>
              <a:latin typeface="Arial"/>
            </a:endParaRPr>
          </a:p>
        </p:txBody>
      </p:sp>
      <p:graphicFrame>
        <p:nvGraphicFramePr>
          <p:cNvPr id="665" name=""/>
          <p:cNvGraphicFramePr/>
          <p:nvPr/>
        </p:nvGraphicFramePr>
        <p:xfrm>
          <a:off x="436680" y="1363680"/>
          <a:ext cx="7304040" cy="3689280"/>
        </p:xfrm>
        <a:graphic>
          <a:graphicData uri="http://schemas.openxmlformats.org/drawingml/2006/table">
            <a:tbl>
              <a:tblPr/>
              <a:tblGrid>
                <a:gridCol w="7304040"/>
              </a:tblGrid>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Safety</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46044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Commercial</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7448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Technical</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6836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Supplier Quality</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5720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SDL&amp;I </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5720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Reverse e-auction</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Closing</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
        <p:nvSpPr>
          <p:cNvPr id="66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7BD4-C9D4-4407-90EA-B38C35C18E5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FD56-1016-4DDF-B48E-8B292DE4BFF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AA4E-FD62-44FF-AD03-DBA9D35F0B15}"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ACE5-DCED-4F7A-BE90-FD9AA51EBED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 Basic Compliance</a:t>
            </a:r>
            <a:endParaRPr b="0" lang="en-US" sz="2400" spc="-1" strike="noStrike">
              <a:solidFill>
                <a:srgbClr val="ffffff"/>
              </a:solidFill>
              <a:latin typeface="Arial"/>
            </a:endParaRPr>
          </a:p>
        </p:txBody>
      </p:sp>
      <p:sp>
        <p:nvSpPr>
          <p:cNvPr id="671" name="Rectangle 3"/>
          <p:cNvSpPr/>
          <p:nvPr/>
        </p:nvSpPr>
        <p:spPr>
          <a:xfrm>
            <a:off x="250920" y="981000"/>
            <a:ext cx="8569080" cy="5740560"/>
          </a:xfrm>
          <a:prstGeom prst="rect">
            <a:avLst/>
          </a:prstGeom>
          <a:noFill/>
          <a:ln w="0">
            <a:noFill/>
          </a:ln>
        </p:spPr>
        <p:style>
          <a:lnRef idx="0"/>
          <a:fillRef idx="0"/>
          <a:effectRef idx="0"/>
          <a:fontRef idx="minor"/>
        </p:style>
        <p:txBody>
          <a:bodyPr lIns="90000" rIns="90000" tIns="46800" bIns="46800" anchor="t">
            <a:normAutofit/>
          </a:bodyPr>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Tenderer to submit the original tender document PLUS ONE (1) exact hard copy of the original tender.  </a:t>
            </a:r>
            <a:r>
              <a:rPr b="0" lang="en-US" sz="1800" spc="-1" strike="noStrike">
                <a:solidFill>
                  <a:srgbClr val="003896"/>
                </a:solidFill>
                <a:latin typeface="Arial"/>
              </a:rPr>
              <a:t>Only tenders submitted at the correct location and correct closing date and time will be accepted.  </a:t>
            </a:r>
            <a:r>
              <a:rPr b="1" lang="en-GB" sz="1800" spc="-1" strike="noStrike">
                <a:solidFill>
                  <a:srgbClr val="003896"/>
                </a:solidFill>
                <a:latin typeface="Arial"/>
              </a:rPr>
              <a:t>NO LATE TENDERS WILL BE ACCEPTED</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Where a submission does not bear the details of the tendering supplier and/or the Enquiry number, it is an unidentified tender and will be rejected as non-responsive</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outh African tenderers must be registered on the CSD (National Treasury Central Supplier Database).  </a:t>
            </a:r>
            <a:r>
              <a:rPr b="1" lang="en-US" sz="1800" spc="-1" strike="noStrike">
                <a:solidFill>
                  <a:srgbClr val="003896"/>
                </a:solidFill>
                <a:latin typeface="Arial"/>
              </a:rPr>
              <a:t>The buyer shall verify registration on the National Treasury Supplier Data Base (CSD).  If the tenderer is found not to be registered the tender shall be rendered commercially non-responsive</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Acceptance of Eskom’s standard conditions of tender</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Tenderer to meet the eligibility criteria for a tenderer as per 2.1 of the Invitation to Tender Document</a:t>
            </a:r>
            <a:endParaRPr b="0" lang="en-US" sz="18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7509-BA2A-41D2-A0E4-4FBCE4B1F15C}"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73"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4276-A749-4F11-AF08-0ABD6620392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 Mandatory Returnable Documents</a:t>
            </a:r>
            <a:endParaRPr b="0" lang="en-US" sz="2400" spc="-1" strike="noStrike">
              <a:solidFill>
                <a:srgbClr val="ffffff"/>
              </a:solidFill>
              <a:latin typeface="Arial"/>
            </a:endParaRPr>
          </a:p>
        </p:txBody>
      </p:sp>
      <p:sp>
        <p:nvSpPr>
          <p:cNvPr id="675" name="Rectangle 3"/>
          <p:cNvSpPr/>
          <p:nvPr/>
        </p:nvSpPr>
        <p:spPr>
          <a:xfrm>
            <a:off x="282600" y="963720"/>
            <a:ext cx="8642160" cy="5740200"/>
          </a:xfrm>
          <a:prstGeom prst="rect">
            <a:avLst/>
          </a:prstGeom>
          <a:noFill/>
          <a:ln w="0">
            <a:noFill/>
          </a:ln>
        </p:spPr>
        <p:style>
          <a:lnRef idx="0"/>
          <a:fillRef idx="0"/>
          <a:effectRef idx="0"/>
          <a:fontRef idx="minor"/>
        </p:style>
        <p:txBody>
          <a:bodyPr lIns="90000" rIns="90000" tIns="46800" bIns="46800" anchor="t">
            <a:normAutofit/>
          </a:bodyPr>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page 22 to 25 of the Invitation to Tender Document for the list of mandatory returnable docu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All documents listed and marked with  </a:t>
            </a:r>
            <a:r>
              <a:rPr b="1" lang="en-US" sz="2000" spc="-1" strike="noStrike" u="sng">
                <a:solidFill>
                  <a:srgbClr val="003896"/>
                </a:solidFill>
                <a:uFillTx/>
                <a:latin typeface="Arial"/>
              </a:rPr>
              <a:t>√</a:t>
            </a:r>
            <a:r>
              <a:rPr b="1" lang="en-US" sz="2000" spc="-1" strike="noStrike">
                <a:solidFill>
                  <a:srgbClr val="003896"/>
                </a:solidFill>
                <a:latin typeface="Arial"/>
              </a:rPr>
              <a:t>  in the                       “Returnable documents mandatory  for evaluation purposes and due at  tender closing” column, must be submitted with the tender to be evaluated further.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mandatory tender returnable documents as stipulated in the invitation to tender document must be printed, completed, signed and be inserted in the commercial returnable fil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If any of these documents are not completed and submitted, the tender will be disqualifi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A3E2-8EC6-42CD-9A5F-F05EF93E494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7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DFAD-7B9B-466B-B7AE-D24BBB93881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8" name="PlaceHolder 1"/>
          <p:cNvSpPr>
            <a:spLocks noGrp="1"/>
          </p:cNvSpPr>
          <p:nvPr>
            <p:ph type="title"/>
          </p:nvPr>
        </p:nvSpPr>
        <p:spPr>
          <a:xfrm>
            <a:off x="456840" y="115560"/>
            <a:ext cx="6519960" cy="1065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valuation</a:t>
            </a:r>
            <a:endParaRPr b="0" lang="en-US" sz="2400" spc="-1" strike="noStrike">
              <a:solidFill>
                <a:srgbClr val="ffffff"/>
              </a:solidFill>
              <a:latin typeface="Arial"/>
            </a:endParaRPr>
          </a:p>
        </p:txBody>
      </p:sp>
      <p:sp>
        <p:nvSpPr>
          <p:cNvPr id="679" name="Rectangle 3"/>
          <p:cNvSpPr/>
          <p:nvPr/>
        </p:nvSpPr>
        <p:spPr>
          <a:xfrm>
            <a:off x="250920" y="1065240"/>
            <a:ext cx="8712000" cy="5545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85840" indent="-2858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85840" indent="-2858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Annexure Q for all technical requirements and evaluation criteria</a:t>
            </a:r>
            <a:endParaRPr b="0" lang="en-US" sz="20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e e-auction</a:t>
            </a:r>
            <a:endParaRPr b="0" lang="en-US" sz="2400" spc="-1" strike="noStrike">
              <a:solidFill>
                <a:srgbClr val="ffffff"/>
              </a:solidFill>
              <a:latin typeface="Arial"/>
            </a:endParaRPr>
          </a:p>
        </p:txBody>
      </p:sp>
      <p:sp>
        <p:nvSpPr>
          <p:cNvPr id="681" name=""/>
          <p:cNvSpPr txBox="1"/>
          <p:nvPr/>
        </p:nvSpPr>
        <p:spPr>
          <a:xfrm>
            <a:off x="436680" y="1125000"/>
            <a:ext cx="8378640" cy="5356440"/>
          </a:xfrm>
          <a:prstGeom prst="rect">
            <a:avLst/>
          </a:prstGeom>
          <a:noFill/>
          <a:ln w="0">
            <a:noFill/>
          </a:ln>
        </p:spPr>
        <p:txBody>
          <a:bodyPr anchor="t">
            <a:normAutofit/>
          </a:bodyPr>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Eskom reserves the right to use reverse e-auctioning on this </a:t>
            </a:r>
            <a:r>
              <a:rPr b="1" lang="en-US" sz="2000" spc="-1" strike="noStrike">
                <a:solidFill>
                  <a:srgbClr val="003896"/>
                </a:solidFill>
                <a:latin typeface="Arial"/>
              </a:rPr>
              <a:t>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The tenderers will submit a complete tender </a:t>
            </a:r>
            <a:r>
              <a:rPr b="0" lang="en-GB" sz="2000" spc="-1" strike="noStrike" u="sng">
                <a:solidFill>
                  <a:srgbClr val="003896"/>
                </a:solidFill>
                <a:uFillTx/>
                <a:latin typeface="Arial"/>
              </a:rPr>
              <a:t>without</a:t>
            </a:r>
            <a:r>
              <a:rPr b="0" lang="en-GB" sz="2000" spc="-1" strike="noStrike">
                <a:solidFill>
                  <a:srgbClr val="003896"/>
                </a:solidFill>
                <a:latin typeface="Arial"/>
              </a:rPr>
              <a:t> prices as stated in the enquiry when following the reverse e-auction process.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verse e-auctioning replaces the negotiation process, with an electronic negotiation process on price only, which provides the results of the tender process immediate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verse e-auction, when applicable, will only be considered once the normal procurement process has progressed to the point that the responsive tenderers have been identified.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ers will be trained on the reverse e-auction system. Responsive tenderers will receive login details in order to participat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eAuction - Annexure A.2 Definition of Reverse E-auctioning, eAuction - User Guide for Prospective Bidders</a:t>
            </a:r>
            <a:endParaRPr b="0" lang="en-US" sz="20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124D-FE34-4AB0-A444-D7D6A38E69D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7C71-E4BA-4E5C-9FC9-BC846828AD7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a:t>
            </a:r>
            <a:endParaRPr b="0" lang="en-US" sz="2400" spc="-1" strike="noStrike">
              <a:solidFill>
                <a:srgbClr val="ffffff"/>
              </a:solidFill>
              <a:latin typeface="Arial"/>
            </a:endParaRPr>
          </a:p>
        </p:txBody>
      </p:sp>
      <p:sp>
        <p:nvSpPr>
          <p:cNvPr id="68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97E3-DDD1-428A-9A11-059AC2B69EFB}"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5F80-C7BA-4354-B7E4-C8B2F540F8D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87" name="Rectangle 3"/>
          <p:cNvSpPr/>
          <p:nvPr/>
        </p:nvSpPr>
        <p:spPr>
          <a:xfrm>
            <a:off x="406440" y="1125360"/>
            <a:ext cx="8408880" cy="1295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Quality Annexures applicable to this tender</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 </a:t>
            </a:r>
            <a:endParaRPr b="0" lang="en-US" sz="2000" spc="-1" strike="noStrike">
              <a:solidFill>
                <a:srgbClr val="003896"/>
              </a:solidFill>
              <a:latin typeface="Arial"/>
            </a:endParaRPr>
          </a:p>
        </p:txBody>
      </p:sp>
      <p:sp>
        <p:nvSpPr>
          <p:cNvPr id="688"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15000"/>
              </a:lnSpc>
              <a:spcBef>
                <a:spcPts val="2251"/>
              </a:spcBef>
              <a:buClr>
                <a:srgbClr val="8c7f6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Annexure K</a:t>
            </a:r>
            <a:r>
              <a:rPr b="0" lang="en-ZA" sz="1800" spc="-1" strike="noStrike">
                <a:solidFill>
                  <a:srgbClr val="003896"/>
                </a:solidFill>
                <a:latin typeface="Arial"/>
                <a:ea typeface="Calibri"/>
              </a:rPr>
              <a:t> – List of Tender Returnable Documents for Calibration and repairs tender</a:t>
            </a:r>
            <a:endParaRPr b="0" lang="en-US" sz="1800" spc="-1" strike="noStrike">
              <a:solidFill>
                <a:srgbClr val="003896"/>
              </a:solidFill>
              <a:latin typeface="Arial"/>
            </a:endParaRPr>
          </a:p>
          <a:p>
            <a:pPr algn="just">
              <a:lnSpc>
                <a:spcPct val="115000"/>
              </a:lnSpc>
              <a:spcBef>
                <a:spcPts val="2251"/>
              </a:spcBef>
              <a:buClr>
                <a:srgbClr val="8c7f6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Annexure L</a:t>
            </a:r>
            <a:r>
              <a:rPr b="0" lang="en-ZA" sz="1800" spc="-1" strike="noStrike">
                <a:solidFill>
                  <a:srgbClr val="003896"/>
                </a:solidFill>
                <a:latin typeface="Arial"/>
                <a:ea typeface="Calibri"/>
              </a:rPr>
              <a:t> – Quality Control Plan or Inspection Test Plan (QCP or ITP) </a:t>
            </a:r>
            <a:endParaRPr b="0" lang="en-US" sz="1800" spc="-1" strike="noStrike">
              <a:solidFill>
                <a:srgbClr val="003896"/>
              </a:solidFill>
              <a:latin typeface="Arial"/>
            </a:endParaRPr>
          </a:p>
          <a:p>
            <a:pPr algn="just">
              <a:lnSpc>
                <a:spcPct val="115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Annexure M</a:t>
            </a:r>
            <a:r>
              <a:rPr b="0" lang="en-ZA" sz="1800" spc="-1" strike="noStrike">
                <a:solidFill>
                  <a:srgbClr val="003896"/>
                </a:solidFill>
                <a:latin typeface="Arial"/>
                <a:ea typeface="Calibri"/>
              </a:rPr>
              <a:t> – Method Statement template </a:t>
            </a:r>
            <a:endParaRPr b="0" lang="en-US" sz="1800" spc="-1" strike="noStrike">
              <a:solidFill>
                <a:srgbClr val="003896"/>
              </a:solidFill>
              <a:latin typeface="Arial"/>
            </a:endParaRPr>
          </a:p>
          <a:p>
            <a:pPr algn="just">
              <a:lnSpc>
                <a:spcPct val="115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ea typeface="Calibri"/>
              </a:rPr>
              <a:t> </a:t>
            </a:r>
            <a:r>
              <a:rPr b="1" lang="en-US" sz="1800" spc="-1" strike="noStrike">
                <a:solidFill>
                  <a:srgbClr val="003896"/>
                </a:solidFill>
                <a:latin typeface="Arial"/>
                <a:ea typeface="Calibri"/>
              </a:rPr>
              <a:t>Annexure N </a:t>
            </a:r>
            <a:r>
              <a:rPr b="0" lang="en-US" sz="1800" spc="-1" strike="noStrike">
                <a:solidFill>
                  <a:srgbClr val="003896"/>
                </a:solidFill>
                <a:latin typeface="Arial"/>
                <a:ea typeface="Calibri"/>
              </a:rPr>
              <a:t>-</a:t>
            </a:r>
            <a:r>
              <a:rPr b="1" lang="en-US" sz="1800" spc="-1" strike="noStrike">
                <a:solidFill>
                  <a:srgbClr val="003896"/>
                </a:solidFill>
                <a:latin typeface="Arial"/>
                <a:ea typeface="Calibri"/>
              </a:rPr>
              <a:t> </a:t>
            </a:r>
            <a:r>
              <a:rPr b="0" lang="en-ZA" sz="1800" spc="-1" strike="noStrike">
                <a:solidFill>
                  <a:srgbClr val="003896"/>
                </a:solidFill>
                <a:latin typeface="Arial"/>
                <a:ea typeface="Calibri"/>
              </a:rPr>
              <a:t>Quality Form A</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Heida Rickett</cp:lastModifiedBy>
  <cp:lastPrinted>2018-10-04T14:27:20Z</cp:lastPrinted>
  <dcterms:modified xsi:type="dcterms:W3CDTF">2022-11-22T05:53:35Z</dcterms:modified>
  <cp:revision>6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